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96B-5525-45BB-B911-EA9B2211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F04-9721-42F2-8ABD-37A0C9F50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0B34-71BC-4D32-92AF-7BB408A59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8666-6C39-4459-AF12-4B62962C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0939-965E-4391-8B8E-76D0011A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956F-AB79-4E57-90A8-ED4F2BF4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F291-1147-498C-8962-2F209BA1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DCF4-A138-453F-80C7-FFCC1D2E4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EFB-141B-4A5C-ACDE-36E8BA01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449B-0684-4D62-92DE-6F57B532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A90-0F2D-40DF-B155-BA85FBD3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15CD-2179-419F-B1EC-77F63C11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39EE-1FAB-414A-9E84-0EE226E94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324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440" y="0"/>
            <a:ext cx="1371600" cy="86508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" action="ppaction://hlinkshowjump?jump=endshow"/>
          </p:cNvPr>
          <p:cNvSpPr/>
          <p:nvPr/>
        </p:nvSpPr>
        <p:spPr>
          <a:xfrm>
            <a:off x="942840" y="2060640"/>
            <a:ext cx="7277400" cy="685800"/>
          </a:xfrm>
          <a:prstGeom prst="hexagon">
            <a:avLst>
              <a:gd name="adj" fmla="val 60279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ress Escape T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5840" y="609588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5840" y="551484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3348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4676760"/>
            <a:ext cx="9144000" cy="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210520" y="0"/>
            <a:ext cx="990720" cy="41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£1,0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50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250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125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6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£3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16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8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4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2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£1,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3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33"/>
                </a:solidFill>
                <a:latin typeface="Arial"/>
              </a:rPr>
              <a:t>£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33640" y="547704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33480" y="4334040"/>
            <a:ext cx="7277040" cy="685800"/>
          </a:xfrm>
          <a:prstGeom prst="hexagon">
            <a:avLst>
              <a:gd name="adj" fmla="val 60276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348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33640" y="6058080"/>
            <a:ext cx="7596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75200" y="528624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95880" y="547704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75200" y="5867280"/>
            <a:ext cx="3238560" cy="457200"/>
          </a:xfrm>
          <a:prstGeom prst="hexagon">
            <a:avLst>
              <a:gd name="adj" fmla="val 58340"/>
              <a:gd name="vf" fmla="val 115470"/>
            </a:avLst>
          </a:prstGeom>
          <a:solidFill>
            <a:srgbClr val="000000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95880" y="6058080"/>
            <a:ext cx="76320" cy="75960"/>
          </a:xfrm>
          <a:prstGeom prst="flowChartDecision">
            <a:avLst/>
          </a:prstGeom>
          <a:solidFill>
            <a:srgbClr val="ff9933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5050"/>
          <p:cNvPicPr/>
          <p:nvPr/>
        </p:nvPicPr>
        <p:blipFill>
          <a:blip r:embed="rId2"/>
          <a:stretch/>
        </p:blipFill>
        <p:spPr>
          <a:xfrm>
            <a:off x="1471680" y="0"/>
            <a:ext cx="1371600" cy="865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6:46:32Z</dcterms:created>
  <dc:creator>Edward Catchpole</dc:creator>
  <dc:description/>
  <dc:language>en-US</dc:language>
  <cp:lastModifiedBy>Edward Catchpole</cp:lastModifiedBy>
  <dcterms:modified xsi:type="dcterms:W3CDTF">2005-11-07T16:43:48Z</dcterms:modified>
  <cp:revision>12</cp:revision>
  <dc:subject/>
  <dc:title>PowerPoint Presentation</dc:title>
</cp:coreProperties>
</file>