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ntro%20theme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4450-F858-4E9F-8A46-07BB2ACCC6C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le sc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ze m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ecatchpole87@hotmail.com" TargetMode="External"/><Relationship Id="rId3" Type="http://schemas.openxmlformats.org/officeDocument/2006/relationships/hyperlink" Target="http://wwtbam4.tripod.com/" TargetMode="External"/><Relationship Id="rId4" Type="http://schemas.openxmlformats.org/officeDocument/2006/relationships/audio" Target="../media/Intro%20them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108240" y="1971720"/>
            <a:ext cx="2927520" cy="2924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1584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endshow"/>
          </p:cNvPr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9732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453360"/>
            <a:ext cx="497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reated by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Edward Catchpole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 – 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tbam4.tripod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walk"/>
          <p:cNvPicPr/>
          <p:nvPr/>
        </p:nvPicPr>
        <p:blipFill>
          <a:blip r:embed="rId1"/>
          <a:stretch/>
        </p:blipFill>
        <p:spPr>
          <a:xfrm>
            <a:off x="1908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028000" y="6946920"/>
            <a:ext cx="1116000" cy="2160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676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28000" y="0"/>
            <a:ext cx="117324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1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5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2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6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9933"/>
                </a:solidFill>
                <a:latin typeface="Arial"/>
              </a:rPr>
              <a:t>£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33480" y="4334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33640" y="605808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9588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9588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5050"/>
          <p:cNvPicPr/>
          <p:nvPr/>
        </p:nvPicPr>
        <p:blipFill>
          <a:blip r:embed="rId2"/>
          <a:stretch/>
        </p:blipFill>
        <p:spPr>
          <a:xfrm>
            <a:off x="147168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9524880" y="58006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7620120" y="545796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2840" y="8889840"/>
            <a:ext cx="7277400" cy="685800"/>
          </a:xfrm>
          <a:prstGeom prst="hexagon">
            <a:avLst>
              <a:gd name="adj" fmla="val 60279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lick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533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61920" y="1752480"/>
            <a:ext cx="722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at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3480" y="3191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1584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firstslide"/>
          </p:cNvPr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7144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endshow"/>
          </p:cNvPr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0380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360" y="8889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88898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ew Corr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9240" y="8889840"/>
            <a:ext cx="76320" cy="7632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5:13:12Z</dcterms:created>
  <dc:creator>Edward Catchpole</dc:creator>
  <dc:description>Edward Catchpole - ecatchpole87@hotmail.com
http://wwtbam4.tripod.com</dc:description>
  <dc:language>en-US</dc:language>
  <cp:lastModifiedBy>Edward Catchpole</cp:lastModifiedBy>
  <dcterms:modified xsi:type="dcterms:W3CDTF">2005-11-11T14:52:33Z</dcterms:modified>
  <cp:revision>411</cp:revision>
  <dc:subject/>
  <dc:title>Who Wants To Be A Millionaire</dc:title>
</cp:coreProperties>
</file>