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ntro%20theme.wav" ContentType="audio/x-wav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A9C9-9D14-40EA-8ACE-18935A50C7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ze m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24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ecatchpole87@hotmail.com" TargetMode="External"/><Relationship Id="rId3" Type="http://schemas.openxmlformats.org/officeDocument/2006/relationships/hyperlink" Target="http://wwtbam4.tripod.com/" TargetMode="External"/><Relationship Id="rId4" Type="http://schemas.openxmlformats.org/officeDocument/2006/relationships/audio" Target="../media/Intro%20them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24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08240" y="1971720"/>
            <a:ext cx="2927520" cy="292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5840" y="5514840"/>
            <a:ext cx="914400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33480" y="528624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33640" y="5477040"/>
            <a:ext cx="7596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4975200" y="528624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97320" y="5477040"/>
            <a:ext cx="7632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53360"/>
            <a:ext cx="497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Edward Catchpole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–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tbam4.tripo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324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walk"/>
          <p:cNvPicPr/>
          <p:nvPr/>
        </p:nvPicPr>
        <p:blipFill>
          <a:blip r:embed="rId1"/>
          <a:stretch/>
        </p:blipFill>
        <p:spPr>
          <a:xfrm>
            <a:off x="19080" y="0"/>
            <a:ext cx="1371600" cy="86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028000" y="6946920"/>
            <a:ext cx="1116000" cy="216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514840"/>
            <a:ext cx="914400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33480" y="528624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676760"/>
            <a:ext cx="914400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28000" y="0"/>
            <a:ext cx="1173240" cy="41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5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25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12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64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16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8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4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33640" y="5477040"/>
            <a:ext cx="7596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3480" y="4334040"/>
            <a:ext cx="7277040" cy="685800"/>
          </a:xfrm>
          <a:prstGeom prst="hexagon">
            <a:avLst>
              <a:gd name="adj" fmla="val 60276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33480" y="586728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33640" y="6058080"/>
            <a:ext cx="7596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75200" y="528624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95880" y="5477040"/>
            <a:ext cx="7632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75200" y="586728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95880" y="6058080"/>
            <a:ext cx="7632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5050"/>
          <p:cNvPicPr/>
          <p:nvPr/>
        </p:nvPicPr>
        <p:blipFill>
          <a:blip r:embed="rId2"/>
          <a:stretch/>
        </p:blipFill>
        <p:spPr>
          <a:xfrm>
            <a:off x="1471680" y="0"/>
            <a:ext cx="1371600" cy="865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9524880" y="5800680"/>
            <a:ext cx="914400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7620120" y="5457960"/>
            <a:ext cx="7277040" cy="685800"/>
          </a:xfrm>
          <a:prstGeom prst="hexagon">
            <a:avLst>
              <a:gd name="adj" fmla="val 60276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42840" y="8889840"/>
            <a:ext cx="7277400" cy="685800"/>
          </a:xfrm>
          <a:prstGeom prst="hexagon">
            <a:avLst>
              <a:gd name="adj" fmla="val 60279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lick To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324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533760"/>
            <a:ext cx="914400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61920" y="1752480"/>
            <a:ext cx="722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at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3480" y="3191040"/>
            <a:ext cx="7277040" cy="685800"/>
          </a:xfrm>
          <a:prstGeom prst="hexagon">
            <a:avLst>
              <a:gd name="adj" fmla="val 60276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5840" y="6095880"/>
            <a:ext cx="914400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firstslide"/>
          </p:cNvPr>
          <p:cNvSpPr/>
          <p:nvPr/>
        </p:nvSpPr>
        <p:spPr>
          <a:xfrm>
            <a:off x="933480" y="586728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71440" y="6058080"/>
            <a:ext cx="7632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endshow"/>
          </p:cNvPr>
          <p:cNvSpPr/>
          <p:nvPr/>
        </p:nvSpPr>
        <p:spPr>
          <a:xfrm>
            <a:off x="4975200" y="586728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03800" y="6058080"/>
            <a:ext cx="7632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360" y="8889840"/>
            <a:ext cx="914400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51280" y="888984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89240" y="8889840"/>
            <a:ext cx="76320" cy="7632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5:13:12Z</dcterms:created>
  <dc:creator>Edward Catchpole</dc:creator>
  <dc:description>Edward Catchpole - ecatchpole87@hotmail.com
http://wwtbam4.tripod.com</dc:description>
  <dc:language>en-US</dc:language>
  <cp:lastModifiedBy>Edward Catchpole</cp:lastModifiedBy>
  <dcterms:modified xsi:type="dcterms:W3CDTF">2005-11-11T14:52:33Z</dcterms:modified>
  <cp:revision>411</cp:revision>
  <dc:subject/>
  <dc:title>Who Wants To Be A Millionaire</dc:title>
</cp:coreProperties>
</file>