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5D4-7EA0-4706-A06A-B3E50367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52B-CA95-400F-9E39-E6E5E2F3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13D-9263-41FA-9F86-79513CF2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F6F-E794-4B14-A2FD-0BF0910A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A0F-2F76-434C-8221-D9B6E80B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DDE-2306-49C4-8E33-09173ACA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C9A-0DC9-440A-9100-C2A62C47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6FB-014D-4CDD-B32F-43FAC189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0F3-8681-4A97-BC37-80826EC8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C37-FDDA-4621-99CA-D937C0A6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9C0-67C7-4896-8778-8806D513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2D7-94FD-4796-8205-17EE39A6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F635-76EF-4261-A71A-DF4CDD2B4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32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440" y="0"/>
            <a:ext cx="1371600" cy="86508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942840" y="2060640"/>
            <a:ext cx="7277400" cy="685800"/>
          </a:xfrm>
          <a:prstGeom prst="hexagon">
            <a:avLst>
              <a:gd name="adj" fmla="val 60279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ess Escape To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5840" y="609588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5840" y="551484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33480" y="528624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67676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10520" y="0"/>
            <a:ext cx="99072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£1,0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5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25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12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6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16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8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33640" y="5477040"/>
            <a:ext cx="7596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33480" y="4334040"/>
            <a:ext cx="7277040" cy="685800"/>
          </a:xfrm>
          <a:prstGeom prst="hexagon">
            <a:avLst>
              <a:gd name="adj" fmla="val 60276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33480" y="586728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33640" y="6058080"/>
            <a:ext cx="7596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75200" y="528624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95880" y="5477040"/>
            <a:ext cx="7632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75200" y="586728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95880" y="6058080"/>
            <a:ext cx="7632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5050"/>
          <p:cNvPicPr/>
          <p:nvPr/>
        </p:nvPicPr>
        <p:blipFill>
          <a:blip r:embed="rId2"/>
          <a:stretch/>
        </p:blipFill>
        <p:spPr>
          <a:xfrm>
            <a:off x="1471680" y="0"/>
            <a:ext cx="1371600" cy="865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6:46:32Z</dcterms:created>
  <dc:creator>Edward Catchpole</dc:creator>
  <dc:description/>
  <dc:language>en-US</dc:language>
  <cp:lastModifiedBy>Edward Catchpole</cp:lastModifiedBy>
  <dcterms:modified xsi:type="dcterms:W3CDTF">2005-11-07T16:43:48Z</dcterms:modified>
  <cp:revision>12</cp:revision>
  <dc:subject/>
  <dc:title>PowerPoint Presentation</dc:title>
</cp:coreProperties>
</file>